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8595-2A3E-442D-BDED-11AB8900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FFBC-B749-43CE-8BCB-985DEAEB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9311-99C4-45BC-94DB-D1475853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31AF-32BF-4E15-A4AC-BCD33FFF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E98F-77F3-4CDD-9180-B78840EC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141-6209-473A-874C-C8D3D03A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4F60-61E2-431E-AFCC-58EA6904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EAF7-ED7D-4936-9451-D46788FD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7636-496B-408E-AEFC-897252A1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9864-D8D3-4A66-B1D8-4FD5BA83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CCB-C1B5-4B3F-81AA-AFA8492A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1065-F2EE-48A7-8700-0351B6CF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95A8-5406-46CC-8E27-89B526886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ideo.pbs.org/video/1757221034/" TargetMode="External"/><Relationship Id="rId2" Type="http://schemas.openxmlformats.org/officeDocument/2006/relationships/hyperlink" Target="http://www.youtube.com/watch?v=FR4S1BqdFG4&amp;feature=related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cientificamerican.com/article.cfm?id=this-is-your-brain-on-drug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rvous Syst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quiry bas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the 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ulla oblong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 a picture of the brain and label p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out small pieces of paper and tape the functions over the 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5105160" cy="3641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2120" y="3352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using the promeathan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e Nervous System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n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nges within the body and in the outside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alyz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ensory information, stores some of it, and make decisions regarding appropriate behavi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respo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stimuli by initiating action in the form of muscular cont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the brain work and mediate body fun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ideo.pbs.org/video/1757221034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FR4S1BqdFG4&amp;feature=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your phones, research how the brain works and identify one video like the ones above.  Add it to the list using the promeathan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on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following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ientificamerican.com/article.cfm?id=this-is-your-brain-on-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the person near you and discuss how your brain is affected using info from the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8:37:38Z</dcterms:created>
  <dc:creator>jhiraoka</dc:creator>
  <dc:description/>
  <dc:language>en-US</dc:language>
  <cp:lastModifiedBy>jhiraoka</cp:lastModifiedBy>
  <dcterms:modified xsi:type="dcterms:W3CDTF">2012-10-31T19:00:22Z</dcterms:modified>
  <cp:revision>2</cp:revision>
  <dc:subject/>
  <dc:title>Nervous System </dc:title>
</cp:coreProperties>
</file>